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1D7-6EEF-4521-BFB9-BA7BDD4F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FF7-B72C-44E9-97FF-28D169EC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EBB-77AF-41CB-943E-21A5B0D4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D7D-054B-4DA3-B675-89859D6B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70BB-A7E5-4495-8142-95CD0081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AD79-E1B5-4A85-B31D-272D9A59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3427-086A-467F-947B-58F35CCB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9EBE-8241-4351-A454-4C0A1232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0E39-801D-4302-ABF7-3C141576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F9AD-CEF2-4391-A58F-7AF5E44E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88AB-18E1-4EA4-B904-55457682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4F5-9661-41BA-90D1-FCAB8115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43CB-3AC7-482A-8815-8A3A3CF4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5F53-F129-44B5-9649-E5DCB8DE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A63C-A679-4458-B163-075EB706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B7E3-3DB5-4256-9728-84CE132B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E0C8-C510-46D5-A627-3D240FB1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89D6-A683-47D8-9D4F-39F26C6E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1711A-BAB9-4191-8679-3393314E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BFE5F-89D3-4512-8253-1800F966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BE060-D8CD-4E4E-BDDE-5391D01F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C3D9C-4F23-48EF-8A41-A8628F01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74C-9C52-44DA-92DD-6500415A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21B05-D026-432A-A9E4-28B351E9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374BD-4A85-40B4-AE14-F22AF6AD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CB25F-6BA0-4F9C-A72F-21B4AAD2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F3C44-1F57-4D77-8805-A7F53494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050AF-A06D-4941-BAFA-5F79BD60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E501-1F9B-455C-91DE-5A6DD5CC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15A86-43E5-4830-A1E1-569A1EB9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B0B-842F-410F-B114-3AFE9B10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9FE-C4FE-44C5-830B-A78081F1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159F-661F-4053-84DC-7589311F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C1A-B5C9-4FAE-9182-C7F7D579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8B8-498E-4410-98BA-44659BB1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75C-8CA5-47B5-AEFE-188D3FE3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25.xml"/><Relationship Id="rId32" Type="http://schemas.openxmlformats.org/officeDocument/2006/relationships/slideLayout" Target="../slideLayouts/slideLayout26.xml"/><Relationship Id="rId33" Type="http://schemas.openxmlformats.org/officeDocument/2006/relationships/slideLayout" Target="../slideLayouts/slideLayout27.xml"/><Relationship Id="rId34" Type="http://schemas.openxmlformats.org/officeDocument/2006/relationships/slideLayout" Target="../slideLayouts/slideLayout28.xml"/><Relationship Id="rId35" Type="http://schemas.openxmlformats.org/officeDocument/2006/relationships/slideLayout" Target="../slideLayouts/slideLayout29.xml"/><Relationship Id="rId36" Type="http://schemas.openxmlformats.org/officeDocument/2006/relationships/slideLayout" Target="../slideLayouts/slideLayout30.xml"/><Relationship Id="rId37" Type="http://schemas.openxmlformats.org/officeDocument/2006/relationships/slideLayout" Target="../slideLayouts/slideLayout31.xml"/><Relationship Id="rId38" Type="http://schemas.openxmlformats.org/officeDocument/2006/relationships/slideLayout" Target="../slideLayouts/slideLayout32.xml"/><Relationship Id="rId39" Type="http://schemas.openxmlformats.org/officeDocument/2006/relationships/slideLayout" Target="../slideLayouts/slideLayout33.xml"/><Relationship Id="rId40" Type="http://schemas.openxmlformats.org/officeDocument/2006/relationships/slideLayout" Target="../slideLayouts/slideLayout34.xml"/><Relationship Id="rId41" Type="http://schemas.openxmlformats.org/officeDocument/2006/relationships/slideLayout" Target="../slideLayouts/slideLayout35.xml"/><Relationship Id="rId4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7FD5-C866-421C-9576-1650D4E52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0DB7-64BA-4492-9BB0-894564A90CB8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D77C-907B-42B5-A3E0-592454BA734D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1"/>
    <p:sldLayoutId id="2147483676" r:id="rId32"/>
    <p:sldLayoutId id="2147483677" r:id="rId33"/>
    <p:sldLayoutId id="2147483678" r:id="rId34"/>
    <p:sldLayoutId id="2147483679" r:id="rId35"/>
    <p:sldLayoutId id="2147483680" r:id="rId36"/>
    <p:sldLayoutId id="2147483681" r:id="rId37"/>
    <p:sldLayoutId id="2147483682" r:id="rId38"/>
    <p:sldLayoutId id="2147483683" r:id="rId39"/>
    <p:sldLayoutId id="2147483684" r:id="rId40"/>
    <p:sldLayoutId id="2147483685" r:id="rId41"/>
    <p:sldLayoutId id="2147483686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Чайная для китайцев то же, что для европейцев ресторан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1413000"/>
            <a:ext cx="7740720" cy="544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ервые китайские чайные в Москве открылись в конце 90-х годов. Концепция таких заведений </a:t>
            </a:r>
            <a:r>
              <a:rPr b="0" lang="en-US" sz="4800" spc="-1" strike="noStrike">
                <a:solidFill>
                  <a:srgbClr val="000000"/>
                </a:solidFill>
                <a:latin typeface="바탕"/>
                <a:ea typeface="바탕"/>
              </a:rPr>
              <a:t>: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«Чай как условие здорового образа жизни, как образец взаимодействия между культурами  Китая и России.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763640" y="333360"/>
            <a:ext cx="590400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луб чайной культур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уб чайной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724360" cy="5229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рыт с августа 1997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выше 380 наименований ч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есть залов и ком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мальная цена чашки чая 18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входе     гостям предлагается оставить свою обувь, а заодно и все повседневные мысли. Чай можно пить расположившись на полу или сидя за сто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724360" y="1557360"/>
            <a:ext cx="3419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йная «Багу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4932360" cy="544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йная «Багуа» открыта с с сентября 2005 года. Это не только клуб  но и галерея искусств. В залах выставлена коллекция изысканных аксессуаров и предметов интерьера из Китая. Посетителям чайной кроме разнообразия сортов чая предлагаются три способа заваривания. Можно заказать чайную церимо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4284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Ча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40000" y="1412640"/>
            <a:ext cx="5003640" cy="544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В чайной под названием «Чай»,  открытой в декабре 2000 года, царят классические традиции. Попасть сюда можно только переобувшись. Девиз этого клуба : «Место, где останавливается время». В меню свыше ста сортов чая. Карта постоянного гостя дает право на посещения школ чайного мастерства и каллиграф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21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зей ч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284720" y="1412640"/>
            <a:ext cx="4859280" cy="5445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«Музей чая» открылся в ноябре 2005 года. Расположиться для чаепития в чайной комнате можно на полу вокруг одной из «пяти полян» или у чайного бара. В музее –выставки, посвященные истории чайного пути, чайной посуды  и  чайных церемоний. Гостям могут приготовить белый, желтый, бирюзовый, зеленый, красный и черный чаи. Цена чаепития от 100 до 3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284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437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оформлении заказа для верности можно посоветоваться с чайным мастером. Тогда гостю обязательно расскажут, что когда на улице холодно и промозгло, предпочтение надо отдать «пуэру». Что зеленый чай отлично тонизирует и при правильном заваривании не обжигает, по этому особенно хорош летом. Что чай, который у нас по старинке называют черным, у китайцев именуется красным – благодаря почти рубиновому оттенку ароматного настоя. В музее готовят чай и по старинному обычаю с использованием масла и муки. Стоит такой чай не дешево (1500 рубл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38:42Z</dcterms:created>
  <dc:creator>user</dc:creator>
  <dc:description/>
  <dc:language>en-US</dc:language>
  <cp:lastModifiedBy>Лариса Сергеевна</cp:lastModifiedBy>
  <dcterms:modified xsi:type="dcterms:W3CDTF">2006-12-13T19:50:51Z</dcterms:modified>
  <cp:revision>12</cp:revision>
  <dc:subject/>
  <dc:title>Слайд 1</dc:title>
</cp:coreProperties>
</file>